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5461-B4D1-4404-A9D4-850FB8E9F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2224-D54D-487E-A86A-6826AC817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5568-BD09-4AAE-97A8-C59B14B98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F4F3-9D33-49B0-8DC9-C47C88136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E001-B385-462C-B367-643416883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1749-6497-4EBF-AEF4-7C584A9F1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2D9E-2709-4BBD-95FE-ECB25CE06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D833-9A90-4E9F-A498-4A033E232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BBEF-BF37-49EB-9FFC-C29967C20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B0A4-6ECF-4882-92C2-CB9DE2C55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F0D2-8822-487D-911A-049611268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AE71238F-058B-4942-B1B4-B51E2C22B619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4CCA2241-F2A8-4354-8C8A-87A7EED8A413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C3C8518B-0049-45BD-88F1-EFEE71913A0B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62000" y="5756400"/>
            <a:ext cx="8766000" cy="95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5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eadsheet and Worksheet Basics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on 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nter Data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90720" y="1600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record data keyed in a cell, press ENTER or TA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cancel data entry, press ES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9B592EC-E45F-4E7D-B4B5-197E8C65718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898560" y="3267000"/>
            <a:ext cx="79992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orksheet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eadsheet software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program used to record, report, analyze data in 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ula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to find answers through addition, subtraction, multiplication, and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eadsheet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you to use charts to show data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D7A993D-A1A1-4755-803C-CA9F44D4CE6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xcel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use spreadsheet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s and answers can be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book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readsheet file that contains one or more worksheets with rel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hee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ection in a workbook where you ent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dded or deleted from a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31B2795-7A0C-425C-819B-CF388DEB5245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23191"/>
                </a:solidFill>
                <a:latin typeface="Arial"/>
              </a:rPr>
              <a:t>Excel </a:t>
            </a: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indow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0D78C5F-D508-4FED-B061-0B2AB4F8423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990720" y="1682640"/>
            <a:ext cx="7696080" cy="43610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914400" y="3989520"/>
            <a:ext cx="141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Row h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olumn h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xcel Window Terms: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 Ba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plays current worksheet &amp; applicati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book Close Butt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ick to close the workbook (not the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l Close Button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X. Closes the exce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b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s commands and tools grouped by category on different t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D393174-5013-437D-87DF-EBE98965112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xcel Window Term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b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click to access ribbon tools and commands related to tab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me box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ies the active cell  by the letter of the column and number of the row it intersects.  Also identifies the range of cells being selec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ula Bar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displays contents of the active cell and is used to create or edit text or value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expanded or contracted by clicking the double arrows at the right edge of the b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FD9F59D-4233-468B-AB18-6F312D989EE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xcel Window Term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Cel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ighlighted with a thick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ores information that is entered while the cell is 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um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re VERTICAL. Identified  by the letters at the top of the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ws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HORIZONTAL. Identified by the numbers at the left (beginning) of the 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2E9A1A7-E8F5-4120-A4E9-77F3067323B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xcel Window Term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heet Tab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dentify the worksheets in the work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name: right-click, r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 Butt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lick to display the worksheet in Normal, Page Layout, Page Break P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om control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me as M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oll bar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lso same as M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8BCA9D3A-838C-4ADB-9CDB-DB206C24FBD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409760" y="4708440"/>
            <a:ext cx="6777000" cy="1763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ove Around a Workshee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ouse and scroll 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 TA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AGE UP and PAGE DOWN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5 and enter a cel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TRL-HOME and CTRL-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933480" y="6620040"/>
            <a:ext cx="77295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782C8B5-8FB4-4661-AC86-318490DDF5C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35:53Z</dcterms:created>
  <dc:creator>Jean Bissell</dc:creator>
  <dc:description>Copyright 2006 South-Western/Thomson</dc:description>
  <dc:language>en-US</dc:language>
  <cp:lastModifiedBy>Lenessa Keehn</cp:lastModifiedBy>
  <dcterms:modified xsi:type="dcterms:W3CDTF">2011-03-21T03:49:12Z</dcterms:modified>
  <cp:revision>23</cp:revision>
  <dc:subject/>
  <dc:title>Slide 1</dc:title>
</cp:coreProperties>
</file>